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314D9-25E5-4A1C-A92C-DC161788AE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BE6A6-AD75-4924-9E23-B3273992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5B2E2F-635F-4CC4-8F60-C0D79D8F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2FD50C-2951-414D-8FEB-AD6DC4FB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6967C3-AB55-4A66-B946-2C7C88C7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DEA5F5-F34A-4C00-B655-05452014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9AEB75-5A79-4276-8131-3B2133E6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FBD730-2708-41C0-9216-EA522B82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1B5986-C535-409D-AFAA-8FDB845B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8C70DD6-A19C-4207-8554-EA41FBC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C89735-6443-4337-8606-5F1F43629B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97213-4DFB-41E5-8CF1-D18B1ACF1B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C184-4C07-4432-B95D-64AF2A31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AA38D4-C48D-4ADE-A1F4-21226AAF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89E4F-FBBA-4364-A7AE-34AA51459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9A67-3280-4DA3-9905-4FCBD5E1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8B667-93AF-43A8-937A-290F6798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A8B68-7C96-4878-9896-BCFAFF13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A97A1-90E3-4F98-A893-438CAF17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A8E49-E8A7-4739-B351-2ADCEE3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7095C-4051-483C-A5DD-4752448C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A866E-C26D-4992-A2FE-7B08A5AD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D8E73-E803-485D-A302-D1802742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F715-87A7-4691-8F63-1AE56D008C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3D907-AB33-4D8D-B4CD-F114BE0259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46EC23-370E-44E3-9513-06A33F4B7E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9303C1-B7B9-49D5-861F-F5E6FC64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D682AE-E9C5-4442-89D2-EDB57922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E67452-2339-451A-B9CA-8F98142C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A9CF1BD-7820-48A7-B3E4-58290092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0443B9-7171-47C6-ABD3-1996A1DF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3403B8-D9C5-4E65-9FA6-03BE8784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3D631-EFEE-4762-A56E-D895991D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9086D-3EA8-4CA5-819F-0A681A0D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BEFAF7-F291-42DC-9D28-36158E69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6CAD0D-F21C-4D6A-B924-4339785B7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F611EB-7212-4AE3-A5DA-EE817058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446C56-2C2F-4828-9EAB-6150FBA97F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598C9-F648-4DC2-A3C2-6C570680ED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7E1A2B-A94E-40AD-BBC7-16549D44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FDC2D-925A-4B32-82BD-0639A3F1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BB681F-3FD2-4E10-8220-C8F76F7E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0F0E6-7342-4FEE-A9D7-16DD8890A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AF594-BD6B-4A36-8997-6CB52C71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59FFE3-82DE-4021-8257-295F202F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0BF94-6CC6-4F02-BA77-A1C6D886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7F4C27-D340-4A5F-A26E-DBD73645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53F74-3788-41BD-A734-C0A73531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A41ACB-0429-4C5D-ADC6-DB5B3973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443CB6-E13B-49B4-9E5A-AD51C1D5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B645B-EBD9-4075-AD6B-FB40C52811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5EFBB-33E9-4BF1-A6BB-293CF943A4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050D4-C6C2-4CA1-9AD6-17E7C18D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85E56-4D37-4D6B-A5A1-4DFE7A7A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F0844-6755-474C-9761-F4A488B5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FCB04-79B9-476E-BC2A-B392B674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60325-1875-4F4D-81EE-C479C402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765FA-CA81-4A79-9E42-849895CA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C2DAD-033B-433B-9A04-1E211896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834EC-DFD2-4D9A-AA44-FA1B375A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DBE96-4F40-48EB-ADE9-1F6B0342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D5633-9284-4568-AACB-9196A943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7DC09-0BFC-4D54-AA89-D0B19F91A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B9B68-B3EB-49E4-8D61-16268CD956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FDB7A-4DDA-4CA1-84D9-AD53D29A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73361-5AD9-48AA-89E1-17048663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E3A67-5876-477F-A1F8-1A94AE52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A57D0-05B0-493D-ABCD-B70C6E88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F3C1B-5326-42D7-B54C-439CA669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43D2D-2BB7-4F72-9ED9-8D66421F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E8B46-5ABF-44DD-B9E6-A3B617AE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C54ED-EE5B-4B63-B358-14D213F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6463A8-3726-4B67-8575-3C0433C0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6DB32-85EE-4180-87E0-7D93ED8D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E3330-F7B8-4364-B39C-47EC4E32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232EB-09D1-45AA-BA9A-FAF0F02C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F08B5-35D3-4AC6-BAB8-5012F6966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B54F3-94BC-44A6-BCB3-9EF5AE27C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56153-0B02-4267-AEFC-EC8B677D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423A7-3ADE-437F-AD75-58DA4904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DD56B-CA35-473B-9FD4-5C536688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EDD58-9F8E-4DC4-9583-88ED188D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E5455-5A2E-4D51-BAD6-85A60AC2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1E9881-2E0B-43EB-A413-D1813F96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8E123-E28F-4CD9-BA8A-745CE5F5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D5031-1867-45E7-A4B1-BBB6BAE3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AC86E-90DA-4758-B38C-7C92BD83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24152A-7CB4-47F3-A5CB-B04BBE0C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448D0-324C-4BBA-9178-EABB3F8A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04CF9-F415-42DA-8C40-154C3D01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2507E-7FE7-49AC-B80C-ECB0247D1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76DEF-6E0B-4AA1-8A77-99A03E26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E91DF-10F1-4112-AA14-AEA1B554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9F6D6-03A5-4D44-AB6B-6CE88972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EB084-07FA-4F73-A459-C4975AC0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C70864-27A9-4D06-9C69-28915EB4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E9E61A-1FA4-4D42-B1C8-6FC20B81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3516D-F714-4708-ABB1-24216B46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E17C6-1A8D-431E-B20C-E0A1384A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C9E35-44E1-4211-A98F-219925F1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99F809-FCCD-42BA-AA01-993FA53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00B91-B683-4962-BDC1-514CE564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E2C8B-8254-433E-87D8-48FA977D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11794-F0EB-471D-8947-4CA6E3DE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9B936-C18D-499C-B25B-CB59DA21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9352A4-1FE8-4F42-AE64-37A4E83C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CB23D-F468-4186-BA54-D71C2CCE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F45B4-50FD-434F-8B06-FEE4FE65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BD433-93AF-4B51-B45A-E5BFE684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FF0AE-8725-4792-AA0E-363FADA9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D6D5C9-DD10-433B-A75D-E2AC4872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657EC-07F6-471C-A244-C6DCA2C0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33412-FEBA-47F0-B3F3-55859D46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90FBC-2869-46EA-804C-CF2577A6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65D3C-9157-4E9D-B9F3-60277806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8D56B-3E85-4EE7-8CC9-AE502274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AF974-17DC-4BD6-BC59-13EEC6A4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9E9C02-F72B-45BE-9947-FEACE6CF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5A923A-71B7-47CA-B9D7-26DD0665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BBE9A-B270-4F6E-8779-78A51054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969899-F57C-4138-827C-BD4A7CAA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B5D721-0331-42A7-BDDC-3DBD0F21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C1348A-8A87-41C1-B4D5-5A9DD5FB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948F9-F191-4D42-A2DB-52F6F1C6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61838-AD91-423A-86E9-38C4ECE3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EACEDB-1878-4BF0-8A5F-6581BA39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A35BE-3E63-4C2C-984B-01AE8D4B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DB630-15C3-4307-AEE3-F0052ACE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AAEF46-8C81-4BD3-ABA6-B1538DA7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1DD7C-BFE9-4200-98E2-726AECCC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0BC62-8F25-4412-B15A-D84E2A20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4D4D2-EAA3-4702-A51E-CBD4BCD2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5C4BD-88A7-4877-9791-E28537BE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B18EE-6030-49B8-9AF5-8BADD5A2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90593-E01E-4319-980D-A31AF9C5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074A3B-CB74-4214-B759-2C5F565B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FB67F6-EEF6-44CC-8C07-52F081B5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806664-204D-4B34-BCAC-20E3ED89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AB2E5A-2AB2-4A65-A93C-7A0E256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DB7706-3645-4F0A-B3DE-EDE8C52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32343-98A0-49A1-9183-02BC47D7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54B34E-0A30-4AA3-A02E-7143772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1D2A1F-E814-41F2-8DBE-1BB54045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B6155-8202-4AAE-9F7A-C802E848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67185-CD25-4698-A5F9-4C23E570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B8C7A-189B-4063-8D5C-CBB9C201A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995B29-E121-4F85-BEB8-6C251C173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891CF-E363-4209-9249-D5D6F186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8A889-4387-461B-BC02-B3EA76EF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702C0-3AC5-4E01-B1B8-4B570558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338E0-2581-412F-9846-5329C06C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14C7DC-1889-47BC-AFBC-13779B4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F91297-B14A-475D-9630-8B60D3A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60E04E-CF82-490C-BDE4-C4D3563F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2FFE1-ED2A-49A8-9D91-1805583B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AE799B-B4B8-4591-9EDD-B2EDAACF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4799E-57E7-4E1A-A359-78D5AE6D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8BBDFB-7FED-4F66-9130-CF243802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50171D-4AB8-4AF6-B891-79EEF4C88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93643E-87FD-4450-BACD-D308F6DF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C5D6B-3CFE-4814-9C2E-B9609F23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069BCA-11F0-4322-A0F4-ABDA8F15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720551-D6FA-4B5E-84AF-A1FCEB4C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A0FDA8-B1A3-43F4-98CB-6A015BF2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21AB5-BAE7-404B-A445-E603D32F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24038C-C2C5-409F-8B7B-DF369F00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FDECC-EA51-4707-9B71-F10980B4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D0D1EC-14D1-494B-8125-807AF5D521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4A83C5-C247-4CAF-83EA-06121054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EEBC1-8B80-4CC2-B14D-D29DE4E82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EBE463-B0A4-40B9-8540-C2AADAB9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162B9B-D348-410A-9522-3034A3BA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D688D-03B2-4278-B2EB-1041B82D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58FDD-0B63-4FCC-A10B-7D180022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7434CA-DA33-4B62-AA50-03D7FAB0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68C96-2152-4EA1-88F0-8ECE17C9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59B880-5C24-4BE2-90C7-19F0F65E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524384-2DC9-4B05-93F7-E475F2EC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615C0-78E5-4FDA-B970-AB5EAA67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59C6C-248D-4264-BCF8-56087642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0D9DC-B8C3-4D05-BA68-53178047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286F9D-B136-4258-917C-38140751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0C5C9E-BB4F-4ACE-97FB-E8AFE24A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FCB69E-A6E0-4D11-BA32-E8406030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9A93DE-E1AC-4C98-A0CE-99955DAC0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542D4-573B-4D32-BE7B-F2709AFD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1B736F-6340-4747-9DAC-9F080198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FE404-4082-462B-B73A-1E818D62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1BD34-C101-41D0-A75D-901EC337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00131-74B6-4005-97B5-A987E877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98E471-02CE-4224-8464-D256CB55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82A4D0-CDEE-44D0-B71B-AC8EB1A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86961-94D0-4ACB-853B-C652885B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4372F-C6C5-42D9-865D-C13D8F83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C85168-86CF-4028-B49B-096C7529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6B7172-3B5D-4BC9-9247-8F2DC110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42BFB4-4DA4-48A9-9965-207342D5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EA6125-3D3C-46F0-9C27-8B7D485F5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5A870E-BE49-43BA-8F2A-C5798D81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D3AE57-DAD4-4A89-974C-8D925DF6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A0EE0B-0AF9-42DF-B263-BEAF2074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46E82D-180D-4012-AD41-6A135533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9D2C5A-18DF-42C0-A7D6-0B2186E0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FB653B-20D4-4E97-9AC1-252983C0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374A8F-EF90-4D7B-BC91-E19CCC73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38099-8373-4992-B3D0-F305E340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BC5D27-CEF3-47C5-B080-D6E515A3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54AAC5-7B03-453F-AFA0-89AD2B80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586832-2646-460B-B1C3-7797BE07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476BA0-9A6E-40C3-94C4-953FF63E8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273AF-D042-4EB6-A02B-5EA8E0ED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3AD43-EAD6-4CFD-88E7-1C047475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86B68A-AA7D-4656-B715-32EBAEBE0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A0E569-D787-473B-98CF-41475E14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2EBB3-17FF-46DF-B650-309AB70C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B40E35-ADFF-4B0D-979C-B384E866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81A994-E39F-436E-9373-3090F697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B144E-4C56-4C7A-9489-693A12C4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8E6375-6C5E-4C14-9515-6B6686197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4572C-0487-4352-8217-7B92CE6BC9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3DE8D-2584-4721-B8B9-A4872977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D98F5-4627-4052-A3B9-94808CF0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BD6D-99F9-42A5-8630-A74C12EA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5281-63CC-4D66-BCED-5A6462D4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3C82F-B74B-4BAB-A540-EC0D53B0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90C88-EB9E-4721-A39B-29FB510E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3045-A3C2-4CE3-8505-AAE29FA5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EFF5-6C09-4541-BA0D-558C678E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706D-5789-4AB8-ACD3-DD03B829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565FD-2E55-4C40-84DC-32952472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FCD3D-19AE-48B8-A763-C751D4F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784F1-5D7B-464C-B4A8-FF5A3D8A3D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63A488-2B78-473A-8E2E-55D314AAD5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90B1E-7E84-4CE9-8ECA-CBB0F042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728B04-ACEC-4403-9325-93EEA2F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33C331-1001-496A-853B-CEEE8E8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E140A-C7B3-40D4-B306-DA5D9C41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7BDD5-D3A5-40F7-88D6-FFDCDFF8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B0E54E-0B6E-4888-A49A-EAA96AB6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D5EE55-27F7-442D-8B02-6834C2B1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356DF6-A9AE-4B69-88DF-53192CB9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3FD54F-5A6A-473D-8DEA-7D8D51191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06B9E-1ED3-4EA2-9078-890DD871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509A65-1347-4B3C-A715-1B4DF1A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C8F0-4613-4DC1-BE53-139277CD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2A2D0-43FE-40BA-BF92-7077B70C06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73D36C-B27A-40D3-B6AF-25EDB26A46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424242-E0F4-43BC-B57B-48B08603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E9C985-6CA6-4499-8E4F-2D96C522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91A649-FEEB-42C1-8217-8B6C1D40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C0572B-39A5-417F-B6B1-3E381AF4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1A4B55-92F4-4D8C-8F01-DB2A50E5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2C360E-AC20-49DB-BE7E-6FC0E234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4C6E78-3809-4A7D-A7E1-81A83920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D93C40-C6DD-4E46-884F-B18C5407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E95C6-8717-4848-82D9-C957851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BB15C2-62DD-4151-A144-4A40277C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5347C8-7A9B-4FC5-9D81-226ABB1A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A0D4F1-EEFC-4A9F-98C4-44A43584B1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9A4C9-A507-42D7-BE1D-C0E3ABDE2B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B16D4-BBEB-4D0F-93A8-AFA9154B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E1653-2AF6-4EF5-A834-82DDF39C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22FC1-F57C-4934-A513-5C1B97B3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83CCF-2A04-45FD-BD17-0994315A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02271-67EC-4E14-BEF1-906DC17A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FCB12-CE36-4240-85C9-0A8FAE39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E9D77-CE66-4872-8574-88AE79B7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0D7A1-11E7-4548-8B3C-A082A880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EC7B0-2A36-4CD2-9D77-80E97AC2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5C417-64D2-4496-92CA-D5BD38F3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DA3EB-FE45-4568-8B21-0974371B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810F2-F6E4-4737-A66C-E21F60CF4E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DB8804-6D15-4805-B020-255A2FFB9F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B3A02C-C916-44B5-8EB7-CED28B0C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4676D-2F73-4939-8BF1-05B59A03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B203A-DCB8-40AF-B929-166E757D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3A4E3-A11B-4D24-B9FF-0C5AD53C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0F649-1A8E-4158-99EC-84C68629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A151BA-EA22-4AE3-9D29-6AB9DBD8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CF3B2-DC3A-407F-B4FC-97514A90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2A92C-A3F1-4137-9AB3-4D938AEB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98AAEA-C7C4-482A-BAA7-8A979940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191AC0-37E5-40BA-87D9-E1AAFFA8D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70C741-5AB0-451A-938D-5DB345CF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AC80B4-827A-4604-B973-73FBEAC520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DB39CB-231E-4783-9A70-5976F36A7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6EB68F-362F-40E2-9D1D-AB13A484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AAFA84-80A4-4CED-8145-E100EE82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9C4B-3423-4764-956F-AF0AB8A1DF5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7345-9E0C-4BF7-BA36-85D62630AF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00B4-DAC3-46B7-BB64-9CC4074AD42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EE12-8600-4E63-91F6-81F38BF4FB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94A4-73E6-4B03-9CFB-8D0A588964A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8DF9-91CC-474F-B333-9093C174668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A0CD-F8D4-40A5-B7DB-DD9FEEF8F5E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353E-DDBE-45B5-90AB-E039B6BBFB9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9956-C18E-4A2E-9E98-9212175F5E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87391-696C-47C1-A013-4B88E49A4C9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1C9A-CB08-416F-BA3C-C688C831316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A962-1551-4E91-869A-84AFB9A0B75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ADB5-8F12-45B5-AC22-4BD85C9767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97F3-C48C-4A62-B40B-369767564D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9EC5-A27B-49D8-9B1F-3BF9CED51D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3A6B-D454-465E-8640-C21C16906A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4120-6E25-4A60-BA94-4D2FA30A0C7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B025-DFD6-4BD8-8467-A8F55799AAA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27E-8A2B-4205-8723-C61E0C4D97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A59C-FD47-48FC-A672-BD0CD014CD5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E8F0-17D4-4A08-AD13-A9D8578373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811E-21BC-48ED-BB3B-98BBB80FA4E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F3CA-C36A-4F20-A4B9-F90C87475C0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DD18-D90F-44C3-8977-CE856935F15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3008160" y="2870280"/>
            <a:ext cx="55908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798640"/>
            <a:ext cx="84438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882720" y="17445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 内 乘 法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2"/>
          <p:cNvSpPr/>
          <p:nvPr/>
        </p:nvSpPr>
        <p:spPr>
          <a:xfrm>
            <a:off x="787320" y="709560"/>
            <a:ext cx="66438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请同学们开火车读出乘法算式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         6×3              5×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×4           5×6              3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51"/>
          <p:cNvSpPr/>
          <p:nvPr/>
        </p:nvSpPr>
        <p:spPr>
          <a:xfrm>
            <a:off x="928800" y="200196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1"/>
          <p:cNvSpPr/>
          <p:nvPr/>
        </p:nvSpPr>
        <p:spPr>
          <a:xfrm>
            <a:off x="3041640" y="200196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51"/>
          <p:cNvSpPr/>
          <p:nvPr/>
        </p:nvSpPr>
        <p:spPr>
          <a:xfrm>
            <a:off x="5924520" y="200196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1"/>
          <p:cNvSpPr/>
          <p:nvPr/>
        </p:nvSpPr>
        <p:spPr>
          <a:xfrm>
            <a:off x="814320" y="314316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51"/>
          <p:cNvSpPr/>
          <p:nvPr/>
        </p:nvSpPr>
        <p:spPr>
          <a:xfrm>
            <a:off x="3171960" y="314316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51"/>
          <p:cNvSpPr/>
          <p:nvPr/>
        </p:nvSpPr>
        <p:spPr>
          <a:xfrm>
            <a:off x="6021360" y="3143160"/>
            <a:ext cx="150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乘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51"/>
          <p:cNvSpPr/>
          <p:nvPr/>
        </p:nvSpPr>
        <p:spPr>
          <a:xfrm>
            <a:off x="2192400" y="324324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51"/>
          <p:cNvSpPr/>
          <p:nvPr/>
        </p:nvSpPr>
        <p:spPr>
          <a:xfrm>
            <a:off x="3121200" y="324324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51"/>
          <p:cNvSpPr/>
          <p:nvPr/>
        </p:nvSpPr>
        <p:spPr>
          <a:xfrm>
            <a:off x="2192400" y="43164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51"/>
          <p:cNvSpPr/>
          <p:nvPr/>
        </p:nvSpPr>
        <p:spPr>
          <a:xfrm>
            <a:off x="3073320" y="43164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51"/>
          <p:cNvSpPr/>
          <p:nvPr/>
        </p:nvSpPr>
        <p:spPr>
          <a:xfrm>
            <a:off x="6907320" y="323208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51"/>
          <p:cNvSpPr/>
          <p:nvPr/>
        </p:nvSpPr>
        <p:spPr>
          <a:xfrm>
            <a:off x="7835760" y="324324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51"/>
          <p:cNvSpPr/>
          <p:nvPr/>
        </p:nvSpPr>
        <p:spPr>
          <a:xfrm>
            <a:off x="6929280" y="424512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51"/>
          <p:cNvSpPr/>
          <p:nvPr/>
        </p:nvSpPr>
        <p:spPr>
          <a:xfrm>
            <a:off x="7764480" y="424332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9"/>
          <p:cNvSpPr/>
          <p:nvPr/>
        </p:nvSpPr>
        <p:spPr>
          <a:xfrm>
            <a:off x="406440" y="1363680"/>
            <a:ext cx="500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Picture 2" descr="D:\我的文档-桌面-收藏夹\桌面\2.jpg"/>
          <p:cNvPicPr/>
          <p:nvPr/>
        </p:nvPicPr>
        <p:blipFill>
          <a:blip r:embed="rId1"/>
          <a:stretch/>
        </p:blipFill>
        <p:spPr>
          <a:xfrm>
            <a:off x="5835600" y="1220760"/>
            <a:ext cx="615960" cy="987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2" descr="D:\我的文档-桌面-收藏夹\桌面\2.jpg"/>
          <p:cNvPicPr/>
          <p:nvPr/>
        </p:nvPicPr>
        <p:blipFill>
          <a:blip r:embed="rId2"/>
          <a:stretch/>
        </p:blipFill>
        <p:spPr>
          <a:xfrm>
            <a:off x="7005600" y="1220760"/>
            <a:ext cx="615960" cy="987480"/>
          </a:xfrm>
          <a:prstGeom prst="rect">
            <a:avLst/>
          </a:prstGeom>
          <a:ln w="0">
            <a:noFill/>
          </a:ln>
        </p:spPr>
      </p:pic>
      <p:grpSp>
        <p:nvGrpSpPr>
          <p:cNvPr id="1016" name="组合 22"/>
          <p:cNvGrpSpPr/>
          <p:nvPr/>
        </p:nvGrpSpPr>
        <p:grpSpPr>
          <a:xfrm>
            <a:off x="835200" y="1434960"/>
            <a:ext cx="1184040" cy="714600"/>
            <a:chOff x="835200" y="1434960"/>
            <a:chExt cx="1184040" cy="714600"/>
          </a:xfrm>
        </p:grpSpPr>
        <p:pic>
          <p:nvPicPr>
            <p:cNvPr id="1017" name="Picture 1" descr="D:\我的文档-桌面-收藏夹\桌面\1.jpg"/>
            <p:cNvPicPr/>
            <p:nvPr/>
          </p:nvPicPr>
          <p:blipFill>
            <a:blip r:embed="rId3"/>
            <a:srcRect l="0" t="10020" r="56964" b="0"/>
            <a:stretch/>
          </p:blipFill>
          <p:spPr>
            <a:xfrm>
              <a:off x="835200" y="1506240"/>
              <a:ext cx="57132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Picture 1" descr="D:\我的文档-桌面-收藏夹\桌面\1.jpg"/>
            <p:cNvPicPr/>
            <p:nvPr/>
          </p:nvPicPr>
          <p:blipFill>
            <a:blip r:embed="rId4"/>
            <a:srcRect l="53815" t="0" r="0" b="0"/>
            <a:stretch/>
          </p:blipFill>
          <p:spPr>
            <a:xfrm>
              <a:off x="1406520" y="1434960"/>
              <a:ext cx="61272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9" name="组合 23"/>
          <p:cNvGrpSpPr/>
          <p:nvPr/>
        </p:nvGrpSpPr>
        <p:grpSpPr>
          <a:xfrm>
            <a:off x="2008080" y="1434960"/>
            <a:ext cx="1184400" cy="714600"/>
            <a:chOff x="2008080" y="1434960"/>
            <a:chExt cx="1184400" cy="714600"/>
          </a:xfrm>
        </p:grpSpPr>
        <p:pic>
          <p:nvPicPr>
            <p:cNvPr id="1020" name="Picture 1" descr="D:\我的文档-桌面-收藏夹\桌面\1.jpg"/>
            <p:cNvPicPr/>
            <p:nvPr/>
          </p:nvPicPr>
          <p:blipFill>
            <a:blip r:embed="rId5"/>
            <a:srcRect l="0" t="10020" r="56964" b="0"/>
            <a:stretch/>
          </p:blipFill>
          <p:spPr>
            <a:xfrm>
              <a:off x="2008080" y="1506240"/>
              <a:ext cx="57132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1" name="Picture 1" descr="D:\我的文档-桌面-收藏夹\桌面\1.jpg"/>
            <p:cNvPicPr/>
            <p:nvPr/>
          </p:nvPicPr>
          <p:blipFill>
            <a:blip r:embed="rId6"/>
            <a:srcRect l="53815" t="0" r="0" b="0"/>
            <a:stretch/>
          </p:blipFill>
          <p:spPr>
            <a:xfrm>
              <a:off x="2579400" y="1434960"/>
              <a:ext cx="61308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2" name="组合 26"/>
          <p:cNvGrpSpPr/>
          <p:nvPr/>
        </p:nvGrpSpPr>
        <p:grpSpPr>
          <a:xfrm>
            <a:off x="3294000" y="1434960"/>
            <a:ext cx="1184400" cy="714600"/>
            <a:chOff x="3294000" y="1434960"/>
            <a:chExt cx="1184400" cy="714600"/>
          </a:xfrm>
        </p:grpSpPr>
        <p:pic>
          <p:nvPicPr>
            <p:cNvPr id="1023" name="Picture 1" descr="D:\我的文档-桌面-收藏夹\桌面\1.jpg"/>
            <p:cNvPicPr/>
            <p:nvPr/>
          </p:nvPicPr>
          <p:blipFill>
            <a:blip r:embed="rId7"/>
            <a:srcRect l="0" t="10020" r="56964" b="0"/>
            <a:stretch/>
          </p:blipFill>
          <p:spPr>
            <a:xfrm>
              <a:off x="3294000" y="1506240"/>
              <a:ext cx="571320" cy="64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Picture 1" descr="D:\我的文档-桌面-收藏夹\桌面\1.jpg"/>
            <p:cNvPicPr/>
            <p:nvPr/>
          </p:nvPicPr>
          <p:blipFill>
            <a:blip r:embed="rId8"/>
            <a:srcRect l="53815" t="0" r="0" b="0"/>
            <a:stretch/>
          </p:blipFill>
          <p:spPr>
            <a:xfrm>
              <a:off x="3865320" y="1434960"/>
              <a:ext cx="6130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5" name="左大括号 29"/>
          <p:cNvSpPr/>
          <p:nvPr/>
        </p:nvSpPr>
        <p:spPr>
          <a:xfrm rot="16200000">
            <a:off x="2442240" y="541800"/>
            <a:ext cx="428760" cy="35002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0800 h 3500280"/>
              <a:gd name="textAreaBottom" fmla="*/ 3489480 h 35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477"/>
                </a:lnTo>
                <a:cubicBezTo>
                  <a:pt x="10800" y="10587"/>
                  <a:pt x="5400" y="10697"/>
                  <a:pt x="0" y="10697"/>
                </a:cubicBezTo>
                <a:cubicBezTo>
                  <a:pt x="5400" y="10697"/>
                  <a:pt x="10800" y="10807"/>
                  <a:pt x="10800" y="10917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左大括号 30"/>
          <p:cNvSpPr/>
          <p:nvPr/>
        </p:nvSpPr>
        <p:spPr>
          <a:xfrm rot="16200000">
            <a:off x="6478560" y="1220400"/>
            <a:ext cx="428760" cy="2143080"/>
          </a:xfrm>
          <a:custGeom>
            <a:avLst/>
            <a:gdLst>
              <a:gd name="textAreaLeft" fmla="*/ 273960 w 428760"/>
              <a:gd name="textAreaRight" fmla="*/ 429120 w 428760"/>
              <a:gd name="textAreaTop" fmla="*/ 10800 h 2143080"/>
              <a:gd name="textAreaBottom" fmla="*/ 213228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59"/>
                </a:cubicBezTo>
                <a:lnTo>
                  <a:pt x="10800" y="10338"/>
                </a:lnTo>
                <a:cubicBezTo>
                  <a:pt x="10800" y="10518"/>
                  <a:pt x="5400" y="10697"/>
                  <a:pt x="0" y="10697"/>
                </a:cubicBezTo>
                <a:cubicBezTo>
                  <a:pt x="5400" y="10697"/>
                  <a:pt x="10800" y="10877"/>
                  <a:pt x="10800" y="11056"/>
                </a:cubicBezTo>
                <a:lnTo>
                  <a:pt x="10800" y="21241"/>
                </a:lnTo>
                <a:cubicBezTo>
                  <a:pt x="10800" y="21421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1"/>
          <p:cNvSpPr/>
          <p:nvPr/>
        </p:nvSpPr>
        <p:spPr>
          <a:xfrm>
            <a:off x="1335240" y="2435400"/>
            <a:ext cx="2714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个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2"/>
          <p:cNvSpPr/>
          <p:nvPr/>
        </p:nvSpPr>
        <p:spPr>
          <a:xfrm>
            <a:off x="5335560" y="2435400"/>
            <a:ext cx="2714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个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3"/>
          <p:cNvSpPr/>
          <p:nvPr/>
        </p:nvSpPr>
        <p:spPr>
          <a:xfrm>
            <a:off x="549360" y="3078000"/>
            <a:ext cx="36432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乘法算式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    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34"/>
          <p:cNvSpPr/>
          <p:nvPr/>
        </p:nvSpPr>
        <p:spPr>
          <a:xfrm>
            <a:off x="1293840" y="4187880"/>
            <a:ext cx="31845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读作    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35"/>
          <p:cNvSpPr/>
          <p:nvPr/>
        </p:nvSpPr>
        <p:spPr>
          <a:xfrm>
            <a:off x="2120760" y="3220920"/>
            <a:ext cx="50004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6"/>
          <p:cNvSpPr/>
          <p:nvPr/>
        </p:nvSpPr>
        <p:spPr>
          <a:xfrm>
            <a:off x="3073320" y="3232080"/>
            <a:ext cx="50004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8"/>
          <p:cNvSpPr/>
          <p:nvPr/>
        </p:nvSpPr>
        <p:spPr>
          <a:xfrm>
            <a:off x="3049560" y="4294080"/>
            <a:ext cx="50004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39"/>
          <p:cNvSpPr/>
          <p:nvPr/>
        </p:nvSpPr>
        <p:spPr>
          <a:xfrm>
            <a:off x="5264280" y="3078000"/>
            <a:ext cx="32144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乘法算式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:    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40"/>
          <p:cNvSpPr/>
          <p:nvPr/>
        </p:nvSpPr>
        <p:spPr>
          <a:xfrm>
            <a:off x="5892840" y="4037040"/>
            <a:ext cx="24289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读作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41"/>
          <p:cNvSpPr/>
          <p:nvPr/>
        </p:nvSpPr>
        <p:spPr>
          <a:xfrm>
            <a:off x="6835680" y="3220920"/>
            <a:ext cx="50004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42"/>
          <p:cNvSpPr/>
          <p:nvPr/>
        </p:nvSpPr>
        <p:spPr>
          <a:xfrm>
            <a:off x="7764480" y="3209760"/>
            <a:ext cx="500040" cy="5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矩形 43"/>
          <p:cNvSpPr/>
          <p:nvPr/>
        </p:nvSpPr>
        <p:spPr>
          <a:xfrm>
            <a:off x="6907320" y="4222800"/>
            <a:ext cx="50004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44"/>
          <p:cNvSpPr/>
          <p:nvPr/>
        </p:nvSpPr>
        <p:spPr>
          <a:xfrm>
            <a:off x="7764480" y="4222800"/>
            <a:ext cx="50004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51"/>
          <p:cNvSpPr/>
          <p:nvPr/>
        </p:nvSpPr>
        <p:spPr>
          <a:xfrm>
            <a:off x="1785960" y="258300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1"/>
          <p:cNvSpPr/>
          <p:nvPr/>
        </p:nvSpPr>
        <p:spPr>
          <a:xfrm>
            <a:off x="3230640" y="259236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1"/>
          <p:cNvSpPr/>
          <p:nvPr/>
        </p:nvSpPr>
        <p:spPr>
          <a:xfrm>
            <a:off x="5835600" y="260208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1"/>
          <p:cNvSpPr/>
          <p:nvPr/>
        </p:nvSpPr>
        <p:spPr>
          <a:xfrm>
            <a:off x="7286760" y="2602080"/>
            <a:ext cx="35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1"/>
          <p:cNvSpPr/>
          <p:nvPr/>
        </p:nvSpPr>
        <p:spPr>
          <a:xfrm>
            <a:off x="2139840" y="4299120"/>
            <a:ext cx="500040" cy="50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矩形 1"/>
          <p:cNvSpPr/>
          <p:nvPr/>
        </p:nvSpPr>
        <p:spPr>
          <a:xfrm>
            <a:off x="357120" y="928800"/>
            <a:ext cx="84297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独立完成填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相加，和是（ 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）一个乘数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另一个乘数是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，积是（      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51"/>
          <p:cNvSpPr/>
          <p:nvPr/>
        </p:nvSpPr>
        <p:spPr>
          <a:xfrm>
            <a:off x="4214880" y="164304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51"/>
          <p:cNvSpPr/>
          <p:nvPr/>
        </p:nvSpPr>
        <p:spPr>
          <a:xfrm>
            <a:off x="7072200" y="2236680"/>
            <a:ext cx="64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组合 4"/>
          <p:cNvGrpSpPr/>
          <p:nvPr/>
        </p:nvGrpSpPr>
        <p:grpSpPr>
          <a:xfrm>
            <a:off x="2000160" y="3071880"/>
            <a:ext cx="4449960" cy="1071360"/>
            <a:chOff x="2000160" y="3071880"/>
            <a:chExt cx="4449960" cy="1071360"/>
          </a:xfrm>
        </p:grpSpPr>
        <p:sp>
          <p:nvSpPr>
            <p:cNvPr id="1049" name="AutoShape 27"/>
            <p:cNvSpPr/>
            <p:nvPr/>
          </p:nvSpPr>
          <p:spPr>
            <a:xfrm>
              <a:off x="2000160" y="3071880"/>
              <a:ext cx="3571560" cy="1071360"/>
            </a:xfrm>
            <a:prstGeom prst="wedgeRoundRectCallout">
              <a:avLst>
                <a:gd name="adj1" fmla="val 57032"/>
                <a:gd name="adj2" fmla="val 3303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比较（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和（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有什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么相同？有什么不同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0" name="Picture 4" descr="E:\2017秋上·黄倩\其他\人\海豚.jpg海豚"/>
            <p:cNvPicPr/>
            <p:nvPr/>
          </p:nvPicPr>
          <p:blipFill>
            <a:blip r:embed="rId1"/>
            <a:stretch/>
          </p:blipFill>
          <p:spPr>
            <a:xfrm flipH="1">
              <a:off x="5832360" y="3209400"/>
              <a:ext cx="617760" cy="79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1" name="Rectangle 51"/>
          <p:cNvSpPr/>
          <p:nvPr/>
        </p:nvSpPr>
        <p:spPr>
          <a:xfrm>
            <a:off x="1357200" y="4572000"/>
            <a:ext cx="578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）和（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）的意义相同，性质不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4T08:54:00Z</dcterms:created>
  <dc:creator/>
  <dc:description/>
  <dc:language>en-US</dc:language>
  <cp:lastModifiedBy>万润仪器贸易公司</cp:lastModifiedBy>
  <dcterms:modified xsi:type="dcterms:W3CDTF">2020-08-21T00:34:55Z</dcterms:modified>
  <cp:revision>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